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FEE-5626-4E70-9B7E-E925A891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217-D4E6-4ACC-A5A9-C5FFADC8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4E5-0569-4C65-B6BB-8045F521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5CC-0DFF-4621-9E46-C551C935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F59-E222-478A-B1A0-49233692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42A-5753-4FA0-8871-8DCCD2D6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022-4649-40FC-8E2B-49817A0A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61B-EE87-4D1D-A6B9-BD2203D5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84A-4B66-4769-ADA2-E89BEF2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EAE-18D8-4FF5-96BE-8F81C68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E99-872D-4603-BF42-9FF0449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49F-4A8B-4214-95EE-396A554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D735-9DFB-4873-A473-084DABD96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 here with ca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948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7:23:45Z</dcterms:created>
  <dc:creator>Judith M Paradis</dc:creator>
  <dc:description/>
  <dc:language>en-US</dc:language>
  <cp:lastModifiedBy>Judith M Paradis</cp:lastModifiedBy>
  <dcterms:modified xsi:type="dcterms:W3CDTF">2007-12-20T20:15:27Z</dcterms:modified>
  <cp:revision>1</cp:revision>
  <dc:subject/>
  <dc:title>Slide 1</dc:title>
</cp:coreProperties>
</file>